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6D95-7A73-4A0C-B215-994BB059A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166-500A-4E7F-98BD-E182B846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1BB-0EF6-4145-9D82-7D29E00B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ECF4-99AE-4FA6-AA8E-479BA14A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2C5-DA82-4F71-A9C8-F5507AFB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AA6-3CB3-4285-A139-3A3267E75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E99-E4DF-465F-A658-C57B7EA8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8DDF-DAFB-4AE3-830E-4474389F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5A4E-8F51-4A62-9409-1B2337E4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293-EF04-45EA-A7FB-FD3E422E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26FB-53BB-4FAB-8C2D-BF2B84AA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2685-726D-4262-B12E-F8887CF7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DBD2-50C5-4C66-BE8E-70CDD8F323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nti di Patrona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47640" y="1294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Secondo la definizione della Corte Costituzionale, gli Enti di Patronato sono direttamente riconducibili a quegli organi e istituti predisposti dallo Stato per garantire la tutela dei diritti previdenzial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La legge n. 152 del 2001 riafferma la funzione dei Patronati quali garanti dei diritti dei lavoratori, in attuazione dei princìpi costituzionali ed a tal fin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e ribadisce le funzioni di consulenza, assistenza e tutela nel campo previdenziale, assistenziale, sanitario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ne amplia le attività sia nei riguardi dei singoli che delle istituzioni pubbliche attraverso la stipula di convenzion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prevede compiti di informazione, consulenza ed assistenza nell’ambito della salute e della sicurezza nei luoghi di lavo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51814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Times New Roman"/>
              </a:rPr>
              <a:t>Enti di Patronat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294920"/>
            <a:ext cx="8028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|tro|nà|t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.rom., rapporto giuridico tra padrone e liberto, che si instaurava con la manomissione 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estens., appoggio, protezione, tutela, concessa spec. a iniziative culturali, sociali, umanitarie ecc.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istituzione assistenziale: 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</a:rPr>
              <a:t>p. per l’infanzia abbandonat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atronato scolastic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loc.s.m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dir.amm.,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nte associativo dipendente dai singoli comuni soppresso nel 1977, che assisteva economicamente gli alunni delle scuole elementar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, spec. mediante fornitura di libri, cancelleria, indumenti, ecc.</a:t>
            </a:r>
            <a:br>
              <a:rPr sz="2400"/>
            </a:b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Un esempio di organigramma di un Comu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1676520"/>
            <a:ext cx="1752840" cy="42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200" spc="-1" strike="noStrike">
                <a:solidFill>
                  <a:srgbClr val="000000"/>
                </a:solidFill>
                <a:latin typeface="Times New Roman"/>
              </a:rPr>
              <a:t>Sinda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523880"/>
            <a:ext cx="25146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fficio di staff a supporto del Sindaco e Giu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72736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gretario d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Dir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048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778120"/>
            <a:ext cx="1828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ervizio C.d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33720" y="3886200"/>
            <a:ext cx="1828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omitato di Dir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971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257800"/>
            <a:ext cx="121932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ettor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Dire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5257800"/>
            <a:ext cx="121932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ettor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Ragion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5257800"/>
            <a:ext cx="121896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Settore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imes New Roman"/>
              </a:rPr>
              <a:t>Cult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5257800"/>
            <a:ext cx="121932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ettor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Urbanis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86600" y="5257800"/>
            <a:ext cx="1219320" cy="55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ettore </a:t>
            </a: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Pol. Municip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50292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4832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96080" y="5029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Settore attività educative, culturali e sociali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icato com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ttore Cultura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nella slide preced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 Attività Cultur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 Attività Sportive e Ricreati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C. biblioteche e archivi stor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C cultura e spo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zio pubblica istruzion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C. Educazione Prima Infanzia - Trasporti Scolast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 Trasporti Scolast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.O. Mense Scolasti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zio social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 Assistenza Socia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.O. Attività Amministrative di Suppor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00200" y="182880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248520" y="23623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35640" y="5805360"/>
            <a:ext cx="30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.O. = Unità Organizz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11640" y="6308640"/>
            <a:ext cx="454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.O.C. = Unità Organizzativa Compl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862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rganigramma del set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1143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1752480"/>
            <a:ext cx="30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2987640" y="3357360"/>
            <a:ext cx="3205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971640" y="1557360"/>
            <a:ext cx="7775640" cy="3580560"/>
            <a:chOff x="971640" y="1557360"/>
            <a:chExt cx="7775640" cy="3580560"/>
          </a:xfrm>
        </p:grpSpPr>
        <p:sp>
          <p:nvSpPr>
            <p:cNvPr id="77" name=""/>
            <p:cNvSpPr/>
            <p:nvPr/>
          </p:nvSpPr>
          <p:spPr>
            <a:xfrm>
              <a:off x="1763640" y="1557360"/>
              <a:ext cx="56898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Times New Roman"/>
                </a:rPr>
                <a:t>Settore attività educative, culturali e social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47640" y="3357720"/>
              <a:ext cx="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47640" y="3357720"/>
              <a:ext cx="144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43280" y="3357720"/>
              <a:ext cx="0" cy="82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987640" y="335772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64000" y="4221000"/>
              <a:ext cx="17449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U.O.C. biblioteche e archivi stori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268360" y="4221000"/>
              <a:ext cx="15829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U.O. Attività Sportive e Ricreat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156360" y="335772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96360" y="4221000"/>
              <a:ext cx="11509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Servizio Soc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71640" y="4221000"/>
              <a:ext cx="1150920" cy="91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U.O. Attività Cultural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95640" y="4221000"/>
              <a:ext cx="1224000" cy="824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0000"/>
                  </a:solidFill>
                  <a:latin typeface="Times New Roman"/>
                </a:rPr>
                <a:t>Servizio Pubblica Istru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2360" y="335772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003640" y="3357360"/>
              <a:ext cx="32054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643280" y="1989000"/>
              <a:ext cx="0" cy="13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8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ettore attività educative, culturali e soc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11430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52388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sponsabile Set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3720" y="1905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05320" y="2286000"/>
            <a:ext cx="2819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U.O. Mense Scolasti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4080" y="1752480"/>
            <a:ext cx="3048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19051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estis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67080" y="190512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imes New Roman"/>
              </a:rPr>
              <a:t>1 Responsabile del Servi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2057400"/>
            <a:ext cx="533520" cy="7632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0" y="2637000"/>
            <a:ext cx="0" cy="75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87640" y="3357360"/>
            <a:ext cx="320508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87640" y="3357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03640" y="4149720"/>
            <a:ext cx="2465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rea Amministr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8000" y="4149720"/>
            <a:ext cx="2160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Area Tecn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56360" y="33577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5280" y="5084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Responsabile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Capocuo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Cucina </a:t>
            </a:r>
            <a:r>
              <a:rPr b="1" lang="it-IT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 15 add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060640"/>
            <a:ext cx="457200" cy="533160"/>
          </a:xfrm>
          <a:custGeom>
            <a:avLst/>
            <a:gdLst>
              <a:gd name="textAreaLeft" fmla="*/ 61200 w 457200"/>
              <a:gd name="textAreaRight" fmla="*/ 396000 w 457200"/>
              <a:gd name="textAreaTop" fmla="*/ 93240 h 533160"/>
              <a:gd name="textAreaBottom" fmla="*/ 3866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4437000"/>
            <a:ext cx="838440" cy="1081080"/>
          </a:xfrm>
          <a:custGeom>
            <a:avLst/>
            <a:gdLst>
              <a:gd name="textAreaLeft" fmla="*/ 112320 w 838440"/>
              <a:gd name="textAreaRight" fmla="*/ 726120 w 838440"/>
              <a:gd name="textAreaTop" fmla="*/ 189000 h 1081080"/>
              <a:gd name="textAreaBottom" fmla="*/ 78408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9" stAng="-5400000" swAng="-5400000"/>
                <a:lnTo>
                  <a:pt x="0" y="11885"/>
                </a:lnTo>
                <a:arcTo wR="21600" hR="7559" stAng="10800000" swAng="-2682296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5"/>
                </a:lnTo>
                <a:arcTo wR="21600" hR="7559" stAng="8117704" swAng="2324319"/>
                <a:lnTo>
                  <a:pt x="903" y="9721"/>
                </a:lnTo>
                <a:arcTo wR="21600" hR="7559" stAng="-10442022" swAng="5042022"/>
                <a:close/>
              </a:path>
              <a:path fill="darkenLess" w="21600" h="21600">
                <a:moveTo>
                  <a:pt x="21600" y="0"/>
                </a:moveTo>
                <a:arcTo wR="21600" hR="7559" stAng="-5400000" swAng="-5400000"/>
                <a:lnTo>
                  <a:pt x="0" y="7559"/>
                </a:lnTo>
                <a:arcTo wR="21600" hR="7559" stAng="10800000" swAng="-357978"/>
                <a:lnTo>
                  <a:pt x="903" y="9721"/>
                </a:lnTo>
                <a:arcTo wR="21600" hR="7559" stAng="-10442022" swAng="5042022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35640" y="5084640"/>
            <a:ext cx="23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1 Responsabile Are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+ 2 adde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12000" y="4437000"/>
            <a:ext cx="762120" cy="10810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Mensa Patron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628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2852640"/>
            <a:ext cx="2438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espons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84720" y="35002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4508640"/>
            <a:ext cx="30481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Gruppo di donne (lavoratrici part-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73240" y="228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72f"/>
                </a:solidFill>
                <a:latin typeface="Tahoma"/>
              </a:rPr>
              <a:t>Dalla rilevazione di conflitti alla committenza per uno sviluppo del Servizio Men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73240" y="1523880"/>
            <a:ext cx="76658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Il lavoro è partito dalla rilevazione di conflitti all’interno del Servizio che ne limitavano le prospettive di svilupp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Occuparsi di questo conflitto era motivato dal pensare il Servizio Mensa come una risorsa per la PA: un servizio di welfare che garantisce un prodotto di qualità, e che offre un’immagine positiva della PA (manifestazioni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Si guardava al conflitto come a una questione di carattere delle persone, qualcuno che si pensa emozionalmente di conoscere (“ci lavoro tutti i giorni…”, “lavoriamo insieme da una vita…”)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Le esigenze di differenziazione e le prospettive di sviluppo, invece, sono sconosciute, richiedono l’investimento in nuovi desideri, desideri da prendere in considerazione, da contestualizzare, con il relativo accrescimento delle competenze, da parte di ciascun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Diversi cambiamenti organizzativi e strutturali erano stati attuati senza considerare l’esigenza di un cambiamento cultural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Abbiamo riletto il conflitto come una informazione sulla cultura attuale del servizio come incompetente a supportare la struttura in sviluppo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Tahoma"/>
              </a:rPr>
              <a:t>Ci siamo proposti di lavorare sulla cultura realizzando un conoscenza di questa nei termini dei suoi limiti e risorse relativamente alle prospettive di sviluppo dell’Amministrazione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229600" y="6095880"/>
          <a:ext cx="762120" cy="684360"/>
        </p:xfrm>
        <a:graphic>
          <a:graphicData uri="http://schemas.openxmlformats.org/drawingml/2006/table">
            <a:tbl>
              <a:tblPr/>
              <a:tblGrid>
                <a:gridCol w="163440"/>
                <a:gridCol w="162000"/>
                <a:gridCol w="163440"/>
                <a:gridCol w="120600"/>
                <a:gridCol w="152640"/>
              </a:tblGrid>
              <a:tr h="137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c0072f"/>
                          </a:solidFill>
                          <a:latin typeface="Tahoma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c0072f"/>
                          </a:solidFill>
                          <a:latin typeface="Tahoma"/>
                        </a:rPr>
                        <a:t>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c0072f"/>
                          </a:solidFill>
                          <a:latin typeface="Tahoma"/>
                        </a:rPr>
                        <a:t>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520"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477120" y="6602400"/>
            <a:ext cx="2514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R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isorse</a:t>
            </a: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O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biettivi</a:t>
            </a: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S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trumenti</a:t>
            </a:r>
            <a:r>
              <a:rPr b="1" lang="it-IT" sz="9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6602400"/>
            <a:ext cx="403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S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viluppo </a:t>
            </a: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S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ervizio </a:t>
            </a: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M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ensa – </a:t>
            </a: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C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omune di </a:t>
            </a: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M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ontevarc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6602400"/>
            <a:ext cx="99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0072f"/>
                </a:solidFill>
                <a:latin typeface="Tahoma"/>
              </a:rPr>
              <a:t>A</a:t>
            </a:r>
            <a:r>
              <a:rPr b="1" lang="it-IT" sz="900" spc="-1" strike="noStrike">
                <a:solidFill>
                  <a:srgbClr val="000000"/>
                </a:solidFill>
                <a:latin typeface="Tahoma"/>
              </a:rPr>
              <a:t>gosto 2004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17:30:46Z</dcterms:created>
  <dc:creator>fabrizio</dc:creator>
  <dc:description/>
  <dc:language>en-US</dc:language>
  <cp:lastModifiedBy>Francesca Dolcetti</cp:lastModifiedBy>
  <dcterms:modified xsi:type="dcterms:W3CDTF">2007-02-21T01:26:22Z</dcterms:modified>
  <cp:revision>13</cp:revision>
  <dc:subject/>
  <dc:title>Enti di Patronat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91073716</vt:r8>
  </property>
  <property fmtid="{D5CDD505-2E9C-101B-9397-08002B2CF9AE}" pid="3" name="_AuthorEmail">
    <vt:lpwstr>francesca.dolcetti@fastwebnet.it</vt:lpwstr>
  </property>
  <property fmtid="{D5CDD505-2E9C-101B-9397-08002B2CF9AE}" pid="4" name="_AuthorEmailDisplayName">
    <vt:lpwstr>Francesca Dolcetti</vt:lpwstr>
  </property>
  <property fmtid="{D5CDD505-2E9C-101B-9397-08002B2CF9AE}" pid="5" name="_EmailSubject">
    <vt:lpwstr>R: </vt:lpwstr>
  </property>
</Properties>
</file>