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DDDA-C9BE-4C3E-97C3-785F3500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AAB9-A310-4DFA-BDCA-652C1421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43AA-808B-41EC-A76F-87354420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C079-1BED-4B2A-8BDA-2901BBF9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FCA-2147-44D2-903E-5BF4835A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EE0-A926-40E1-8863-1410D6B91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B8D4-B65D-4444-9E62-0F1B1969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096D-B617-4E25-842C-E329CBA0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62A0-CF8A-4A30-8ADA-CCFA866C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A6A9-1111-4878-92AE-0D4A18FF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0A0C-7090-4B64-AD4F-BFFF9C22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9A6D-9872-41C1-9E33-E113CBD6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7EC9-3FF3-4943-A94E-61F74ABBBC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 flipV="1">
            <a:off x="4799160" y="-1703160"/>
            <a:ext cx="3810600" cy="6610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254" y="98"/>
                </a:moveTo>
                <a:arcTo wR="10800" hR="10800" stAng="-4935886" swAng="4854665"/>
                <a:lnTo>
                  <a:pt x="10800" y="10800"/>
                </a:lnTo>
                <a:close/>
              </a:path>
              <a:path fill="none" w="21600" h="21600">
                <a:moveTo>
                  <a:pt x="12254" y="98"/>
                </a:moveTo>
                <a:arcTo wR="10800" hR="10800" stAng="-4935886" swAng="4854665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-948600"/>
            <a:ext cx="3657240" cy="58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38" y="9641"/>
                </a:moveTo>
                <a:arcTo wR="10800" hR="10800" stAng="-369741" swAng="5388894"/>
                <a:lnTo>
                  <a:pt x="10800" y="10800"/>
                </a:lnTo>
                <a:close/>
              </a:path>
              <a:path fill="none" w="21600" h="21600">
                <a:moveTo>
                  <a:pt x="21538" y="9641"/>
                </a:moveTo>
                <a:arcTo wR="10800" hR="10800" stAng="-369741" swAng="5388894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1218960" y="487692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6400440" y="48769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914400" y="4876920"/>
            <a:ext cx="60912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15560" y="4876920"/>
            <a:ext cx="45648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51814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772400" y="51814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914400" y="5333400"/>
            <a:ext cx="6091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1" swAng="540000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1" swAng="5400001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7315200" y="5330880"/>
            <a:ext cx="456840" cy="76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434" y="19"/>
                </a:moveTo>
                <a:arcTo wR="10800" hR="10800" stAng="-5198064" swAng="5198064"/>
                <a:lnTo>
                  <a:pt x="10800" y="10800"/>
                </a:lnTo>
                <a:close/>
              </a:path>
              <a:path fill="none" w="21600" h="21600">
                <a:moveTo>
                  <a:pt x="11434" y="19"/>
                </a:moveTo>
                <a:arcTo wR="10800" hR="10800" stAng="-5198064" swAng="5198064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6095880"/>
            <a:ext cx="6324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-1440" y="-824040"/>
            <a:ext cx="3660840" cy="561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941" y="826"/>
                </a:moveTo>
                <a:arcTo wR="10800" hR="10800" stAng="-4047104" swAng="3973425"/>
                <a:lnTo>
                  <a:pt x="10800" y="10800"/>
                </a:lnTo>
                <a:close/>
              </a:path>
              <a:path fill="none" w="21600" h="21600">
                <a:moveTo>
                  <a:pt x="14941" y="826"/>
                </a:moveTo>
                <a:arcTo wR="10800" hR="10800" stAng="-4047104" swAng="3973425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46483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16765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1676520"/>
            <a:ext cx="6091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753200" y="4494960"/>
            <a:ext cx="76104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066680" y="1676520"/>
            <a:ext cx="3199680" cy="502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066680" y="3580560"/>
            <a:ext cx="76176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0" y="518148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51814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Nucleo Ope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304812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Tecnostrut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5020560" y="-1063440"/>
            <a:ext cx="3516840" cy="5783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920" y="460"/>
                </a:moveTo>
                <a:arcTo wR="10800" hR="10800" stAng="-4392574" swAng="4148775"/>
                <a:lnTo>
                  <a:pt x="10800" y="10800"/>
                </a:lnTo>
                <a:close/>
              </a:path>
              <a:path fill="none" w="21600" h="21600">
                <a:moveTo>
                  <a:pt x="13920" y="460"/>
                </a:moveTo>
                <a:arcTo wR="10800" hR="10800" stAng="-4392574" swAng="4148775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6483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175248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6248520" y="4494960"/>
            <a:ext cx="608400" cy="15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5029200" y="1752480"/>
            <a:ext cx="6091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96400" y="1752480"/>
            <a:ext cx="3047040" cy="472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0850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08507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934320" y="3733200"/>
            <a:ext cx="6091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62720" y="3048120"/>
            <a:ext cx="152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Staff di suppor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048120" y="13716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257440" y="1371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800600" y="1371600"/>
            <a:ext cx="9136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2160" y="1371600"/>
            <a:ext cx="9136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0400" y="6094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2895480" y="609480"/>
            <a:ext cx="60912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2895480" y="609120"/>
            <a:ext cx="30456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609480"/>
            <a:ext cx="6091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410800" y="456480"/>
            <a:ext cx="30384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3276720"/>
            <a:ext cx="2133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Lin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intermed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914400"/>
            <a:ext cx="1981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914400"/>
            <a:ext cx="220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</a:rPr>
              <a:t>Vertice strateg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624852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 u="sng">
                <a:solidFill>
                  <a:srgbClr val="000000"/>
                </a:solidFill>
                <a:uFillTx/>
                <a:latin typeface="Times New Roman"/>
              </a:rPr>
              <a:t>FIGURA</a:t>
            </a:r>
            <a:r>
              <a:rPr b="0" i="1" lang="it-IT" sz="1600" spc="-1" strike="noStrike" u="sng">
                <a:solidFill>
                  <a:srgbClr val="000000"/>
                </a:solidFill>
                <a:uFillTx/>
                <a:latin typeface="Times New Roman"/>
              </a:rPr>
              <a:t>: Le cinque parti fondamentali dell’organizzazione secondo Mintzber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intzberg: contingenze e configurazioni organizz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412640"/>
            <a:ext cx="82789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’approccio contingentista stabilisce che la struttura organizzativa di un’impresa non è fissa ma varia in funzione del variare di una serie di fattori strategici (dimensioni, complessità della tecnologia, grado di prevedibilità dell’ambien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 conf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gurazion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so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dell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form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all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qua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le organ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zzazioni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per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engono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in un pro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esso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re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iproco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ad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ttamento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la pro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ri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strut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ur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e i fat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or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sit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uazional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, o cont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gent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’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ordin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dei c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qu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me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canism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coo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dinamento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è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u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o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un pro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r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ivo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au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ento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de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margin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d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in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ziativa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individual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ll’esecuzion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del la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voro; non ci si riferisce a tappe evolut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intzberg: le </a:t>
            </a: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figurazioni organizz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644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a scelta delle forme organizzative è basata sulla ricerca della coerenza tra le varie parti.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er comprendere il processo con cui si formano le configurazioni bisogna partire dalla connessione tra i meccanismi con cui l’organizzazione coordina le attività al proprio interno e le </a:t>
            </a: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parti fondamentali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dell’organizzazione preposte a tale coordinamento. Bisogna inoltre tenere presente che i meccanismi differiscono a seconda della complessità e della natura delle attività da coordin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3657600"/>
            <a:ext cx="5791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intzberg e il rapporto con la burocraz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644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La burocrazia di Weber è la struttura più adatta a garantire un’amministrazione regolare e standardizz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È affetta da patologie provocate dalle strategie dei sogg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uddividerla fra forme che concernono lavori esecutivi-meccanici e forme a contenuto rilavante di competen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er uscire dalle patologie progettare stili di direzione non gerarchici, valide per aree innovative e con finalità specif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oesistenza di diverse forme organizzative nella stessa i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entralità fra meccanismi di coordinamento e strutture che li esercit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3657600"/>
            <a:ext cx="5791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intzberg e meccanismi di coordin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6448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upervisione diret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tandardizzazione dei processi produttiv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Programmazione e definizione procedure di lavoro è tipica di mansioni standardizzate e ripetitive </a:t>
            </a:r>
            <a:r>
              <a:rPr b="1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Tecnostrut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andardizzazione capacità dei dipendenti tipica di ampi margini di discrezionalità e iniziativa pers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tandardizzazione dei risult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dattamento reciproco quale meccanismo non gerarchico, immediato e informale per compiti non di rout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3657600"/>
            <a:ext cx="5791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Mintzberg e il comportamento delle parti dell’organ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64480" cy="52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vertice strategico spinge verso l’accentramento a favorire una struttura sempl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a tecnostruttura spinge verso la standardizzazione del nucleo operativo e favorisce l’emergere della burocrazia mecca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nucleo operativo riduce il controllo della tecnostruttura e spinge verso la propria professional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a linea intermedia spinge verso una crescente autonomia (balcanizzazion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o staff di supporto spinge alla collaborazione alle decisioni attraverso la propria compet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3657600"/>
            <a:ext cx="5791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08:38:02Z</dcterms:created>
  <dc:creator>fabrizio</dc:creator>
  <dc:description/>
  <dc:language>en-US</dc:language>
  <cp:lastModifiedBy>Dolcetti</cp:lastModifiedBy>
  <dcterms:modified xsi:type="dcterms:W3CDTF">2006-10-19T00:50:1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17842534</vt:r8>
  </property>
  <property fmtid="{D5CDD505-2E9C-101B-9397-08002B2CF9AE}" pid="3" name="_AuthorEmail">
    <vt:lpwstr>francesca.dolcetti@fastwebnet.it</vt:lpwstr>
  </property>
  <property fmtid="{D5CDD505-2E9C-101B-9397-08002B2CF9AE}" pid="4" name="_AuthorEmailDisplayName">
    <vt:lpwstr>Francesca Dolcetti</vt:lpwstr>
  </property>
  <property fmtid="{D5CDD505-2E9C-101B-9397-08002B2CF9AE}" pid="5" name="_EmailSubject">
    <vt:lpwstr>R: </vt:lpwstr>
  </property>
</Properties>
</file>