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0BA0-8558-40F3-A12E-EAB8E985E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EBD1-A3ED-471A-9FD9-4B5992B2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49C-8AF4-4BDA-BA35-1CBC11A4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10D3-58FC-43A5-96B3-ABDDA1652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0AE-3CC7-4AA2-AC7C-693CD1217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B664-3B36-4985-B2D1-935CAFAB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AD90-3A5D-4AAD-BFE4-81DE1805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905-3991-417B-85CA-9D8E84A9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A761-195E-4A2F-8757-AF3B0E2D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F25-2607-47F3-8FD3-39E6B2DC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A8E6-9EBE-43C9-9E01-E40E0323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762-716E-4AFF-B4BB-9D618875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65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4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4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4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4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43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4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43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4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43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4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43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43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43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43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43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066B-B53A-4130-9515-F5B0F32712F7}" type="slidenum">
              <a:rPr b="0" lang="it-IT" sz="1400" spc="-1" strike="noStrike">
                <a:solidFill>
                  <a:srgbClr val="fff43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659"/>
                </a:solidFill>
                <a:latin typeface="Arial"/>
              </a:rPr>
              <a:t>Il sogno e l’Inconscio</a:t>
            </a: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1899 (1900) 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L’Interperazione dei sogni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contenuto del sogno si limita a dichiarare: Tutte queste cose hanno un elemento in comune”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lavoro di condensazione  permette di affermare che: ogni elemento del contenuto onirico è </a:t>
            </a: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sovradeterminato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 dal materiale dei pensieri, cioè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Ogni elemento del sogno (contenuto manifesto) raccontato deriva da una intera serie di pensieri diversi 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Ogni pensiero del sogno (contenuto latente) è rappresentato da più di un elemento del sogn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La connessione tra contenuto manifesto e contenuto latente è resa  irriconoscibile da un’altra trasformazione: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L’importanza  affettiva dei pensieri è trasformata in vivacità sensoriale: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Minore il ricorso allo spostamento, maggiore è la chiarezza del sogn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’elemento più chiaro del contenuto onirico è quello più important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 sogni oscuri e confusi derivano dall’azione dello spostament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’analisi del sogno dimostra che  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ogni sogno si riallaccia ad una impressione dei giorni precedenti il sogno, spesso una impressione indifferent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e catene associative portano da questo materiale indifferente a materiale più importante per il sognator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lavoro di spostamento mette in primo piano materiale </a:t>
            </a: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insignificante al posto del materiale che ha suscitato l’interess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o </a:t>
            </a: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spostamento nasconde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 i pensieri da cui deriva il sogno perché ne trasforma l’importanza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I pensieri del sogno vengono trasformati in immagini, cioè i pensieri vengono trasformati per poter essere raffigurati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Quali sono i mezzi di questa raffigurazione? I pensieri onirici vengono  compressi, condensati e frammentati (regressione)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La rielaborazione riguarda il contenuto oggettivo di ogni singolo elemento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437"/>
                </a:solidFill>
                <a:latin typeface="Arial"/>
              </a:rPr>
              <a:t>Si perde la connessione</a:t>
            </a: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 fra i singoli elementi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Il lavoro di analisi deve ristabilire le corrette connessioni distrutte dal lavoro onirico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a connessione logica fra elementi trasformata in  accostamento  nel tempio e nello spazi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a relazione causale in relazione spazial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no non esiste per il sogno: pensieri che sono in contrasto tra loro vengono espresse dallo stesso elemento o un brano del contenuto onirico viene, in successione, trasformato nel suo contrari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Viene sottolineata la relazione di somiglianza fra elementi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Quando si racconta un sogno si ordinano gli elementi onirici formando una composizione, gli elementi del contenuto onirico vengono organizzati e ordinati come un qualsiasi contenuto percettivo:  (</a:t>
            </a: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elaborazione secondaria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e catene associative del sogno portano invariabilmente a pensieri che sorprendonoil sognatore, che il sognatore non riconosce in sé, che gli sono estranei e spiacevoli.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Questi pensieri  si sono trovati in una situazione particolare in seguito a cui non sono potuti diventare coscienti: cioè sono stati RIMOSSI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sogno deve essere oscuro per non tradire i pensieri onirici rigorosamente proibiti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a deformazione onirica, opera del lavoro onirico, serve dunque a dissimulare, risponde alla intenzione di nasconder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La deformazione del sogno è in relazione con la rimozion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I sogni sono velati appagamenti di desideri rimossi: il futuro che il sogno ci mostra è quello che vorremmo che accadesse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Come si spiegano i sogni angosciosi?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L’angoscia sta al posto delladeformazione onirica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Il </a:t>
            </a:r>
            <a:r>
              <a:rPr b="1" lang="it-IT" sz="3200" spc="-1" strike="noStrike">
                <a:solidFill>
                  <a:srgbClr val="fff437"/>
                </a:solidFill>
                <a:latin typeface="Arial"/>
              </a:rPr>
              <a:t>contenuto</a:t>
            </a: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 onirico che provoca angoscia è stato un tempo un desiderio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59"/>
                </a:solidFill>
                <a:latin typeface="Arial"/>
              </a:rPr>
              <a:t>Il sogno e il funzionamento mentale</a:t>
            </a:r>
            <a:endParaRPr b="0" lang="en-US" sz="32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Lo studio della formazione del sogno porta alla ipotesi di un funzionamento basato sulla presenza di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Due istanze di pensiero: “i prodotti della seconda trovano accesso diretto alla coscienza, l’attività della seconda è di per sé inconscia e può giungere alla coscienza solo attraverso la seconda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Nel punto di passaggio tra Inconscio e Coscienza si colloca la censura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Tra le due la censura lascia passare solo ciò che è gradito, respinge i contenuti rimossi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Nel sonno la censura si allenta ma non scompare: i contenuti che emergono dall’inconscio subiscono dei mutamenti che li rendono irriconoscibili  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Questi contenuti sono un compromesso fra ciò che la prima istanza propone e ciò che l’altra esige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f437"/>
                </a:solidFill>
                <a:latin typeface="Arial"/>
              </a:rPr>
              <a:t>Rimozione- allentamento della censura- formazione di compromesso </a:t>
            </a:r>
            <a:r>
              <a:rPr b="0" lang="it-IT" sz="3600" spc="-1" strike="noStrike">
                <a:solidFill>
                  <a:srgbClr val="fff437"/>
                </a:solidFill>
                <a:latin typeface="Arial"/>
              </a:rPr>
              <a:t>sono lo schema base che spiega la formazione del sogno  </a:t>
            </a:r>
            <a:endParaRPr b="0" lang="en-US" sz="36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437"/>
                </a:solidFill>
                <a:latin typeface="Arial"/>
              </a:rPr>
              <a:t>Questo schema base spiega anche la formazione  dei sintomi</a:t>
            </a:r>
            <a:endParaRPr b="0" lang="en-US" sz="36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MODELLO TOPOGRAFICO</a:t>
            </a:r>
            <a:endParaRPr b="0" lang="en-US" sz="18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 dati ottenuti dalla ’interpretazione dei sogni e dall’impiego del metodo delle libere associazioni portano Freud a descrivere il funzionamento della mente in termini “spaziali”.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DELLO TOPOGRAFICO : LE FUNZIONI PSICOLOGICHE SONO “COLLOCATE” IN LUOGHI o SISTEMI DIFFERENTI  (L’interpretazione dei sogni: 1900)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Questi sistemi hanno tre caratteristiche fondamentali: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volgono una certa funzione: fanno qualcosa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nno degli input: qualcosa entra nel sistema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nno degli output: qualcosa lascia il sistema o viene scaricato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Modello topografico descrive alcune funzioni della mente e i processi mentali e la loro relazione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 mente è disegnata come un insieme di tre sottosistemi 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’Inconscio (Inc)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Preconscio (Prec)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 Coscienza (C)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659"/>
                </a:solidFill>
                <a:latin typeface="Arial"/>
              </a:rPr>
              <a:t>Il sogno : 1900</a:t>
            </a: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Chiedersi quale sia il significato del sogno significa: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Qual è il significato psichico del sognare? Qual è la posizione del sogno rispetto agli altri processi psichici? Il sogno ha una funzione biologica?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437"/>
                </a:solidFill>
                <a:latin typeface="Arial"/>
              </a:rPr>
              <a:t>Il sogno è interpretabile  e cioè il contenuto del sogno ha un senso?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 dati ottenuti dalla ’interpretazione dei sogni e dall’impiego del metodo delle libere associazioni portano Freud a descrivere il funzionamento della mente in termini “spaziali”.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DELLO TOPOGRAFICO : LE FUNZIONI PSICOLOGICHE SONO “COLLOCATE” IN LUOGHI o SISTEMI DIFFERENTI  (L’interpretazione dei sogni: 1900)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Questi sistemi hanno tre caratteristiche fondamentali: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volgono una certa funzione: fanno qualcosa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nno degli input: qualcosa entra nel sistema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nno degli output: qualcosa lascia il sistema o viene scaricato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Modello topografico descrive alcune funzioni della mente e i processi mentali e la loro relazione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 mente è disegnata come un insieme di tre sottosistemi 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’Inconscio (Inc)</a:t>
            </a:r>
            <a:endParaRPr b="0" lang="en-US" sz="16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Preconscio (Prec)</a:t>
            </a:r>
            <a:endParaRPr b="0" lang="en-US" sz="16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 Coscienza (C)</a:t>
            </a:r>
            <a:endParaRPr b="0" lang="en-US" sz="1600" spc="-1" strike="noStrike">
              <a:solidFill>
                <a:srgbClr val="fff437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SISTEMA INCONSCIO  (Inc)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 processi psichici in quanto tali sono inconsci…allo stesso modo della realtà fisica la realtà psichica non è necessariamente quale ci appare 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rimosso è parte dell’inconscio conosciamo l’inconscio soltanto dopo che si è trasformato o tradotto in qualcosa di conscio 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lavoro psicoanalitico permette di sperimentare che una traduzione del genere è possibile: il soggetto in analisi deve però supparre determinate resistenze. Le stesse responsabili della rimozione 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rimosso è parte dell’inconscio  contiene idee e sentimenti inaccettabili 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ziona in base al </a:t>
            </a:r>
            <a:r>
              <a:rPr b="1" lang="it-IT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rocesso primario</a:t>
            </a: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: le leggi del tempo e dello spazio e della distinzione degli opposti non trovano applicazione non c’è distinzione fra passato e presente e futuro un simbolo può rappresentare un gran numero di oggetti diversi o avere molti significato persino contraddittori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437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SISTEMA PRECONSCIO (Prec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)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ntiene idee e sentimenti accettabili, inconsci solo in senso descrittivo che possono essere portati facilmente alla coscienza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n sono soggetti a rimozione né alle distorsioni del processo primarioè un serbatorio di pensieri e ricordi accessibili 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Il sistema preconscio lega le “pitture” mentali alle parole (rappresentazioni di parole), è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rutturato linguisticamente si conforma a nome logiche e può dunque rappresnetare pensiero. 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ffinché un contenuto mentale si sposti dall’Inc al Prec deve essere trascritto in un linguaggio.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è un censore capace di modificare i desideri istintuali del sistema inconscio e renderli accettabili al conscio 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437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SISTEMA  CONSCIO (C)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ntiene idee e sentimenti accettabili, è razionale e segue le consuete  leggi logiche, temporali e spaziali (processo secondario) </a:t>
            </a: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it-IT" sz="1800" spc="-1" strike="noStrike">
                <a:solidFill>
                  <a:srgbClr val="ffff00"/>
                </a:solidFill>
                <a:latin typeface="Comic Sans MS"/>
              </a:rPr>
              <a:t>’ingresso alla coscienza</a:t>
            </a: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 è controllato da un censore che separa Prec e C</a:t>
            </a:r>
            <a:endParaRPr b="0" lang="en-US" sz="1600" spc="-1" strike="noStrike">
              <a:solidFill>
                <a:srgbClr val="fff437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</a:rPr>
              <a:t>Processo secondario</a:t>
            </a:r>
            <a:endParaRPr b="0" lang="en-US" sz="1600" spc="-1" strike="noStrike">
              <a:solidFill>
                <a:srgbClr val="fff437"/>
              </a:solidFill>
              <a:latin typeface="Arial"/>
            </a:endParaRPr>
          </a:p>
          <a:p>
            <a:pPr lvl="2" marL="111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437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37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Relazione coscienza - preconscio</a:t>
            </a:r>
            <a:endParaRPr b="0" lang="en-US" sz="28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Possiamo diventare consapevoli  dei contenuti mentali solo se passano dal Sistema Inconscio al sistema Preconscio. 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Gli elementi che passano dall’Inc al Prec devono passare attraverso un “censore” ch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determina quali pensieri possono mentalmente essere messi in parole e quindi resi accessibili alla coscienza 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Comic Sans MS"/>
              </a:rPr>
              <a:t>previene lo scoppio di dolore incontrollabile (colpa, rabbia, panico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437"/>
              </a:solidFill>
              <a:latin typeface="Arial"/>
            </a:endParaRPr>
          </a:p>
          <a:p>
            <a:pPr lvl="1" marL="63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659"/>
                </a:solidFill>
                <a:latin typeface="Arial"/>
              </a:rPr>
              <a:t>La valutazione del sogno</a:t>
            </a: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Prospettiva filosofica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: I sogni nascono da forze psichiche, il sogno è un tipo particolare di attività psichica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Prospettiva medica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: Il sogno è un processo corporeo inutile, le caratteristiche della vita onirica si spiegano con un lavoro non coordinato indotto da stimoli fisiologici in singoli organi o gruppi di cellule del cervello addormentat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Prospettiva popolare: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 il sogno ha senso, è in rapporto con il futuro; il senso del sogno è ricavato mediante un processo di interpretazione a chiave fissa: i libri dei sogni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59"/>
                </a:solidFill>
                <a:latin typeface="Arial"/>
              </a:rPr>
              <a:t>Il sogno e il metodo delle libere associazioni</a:t>
            </a:r>
            <a:endParaRPr b="0" lang="en-US" sz="32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Diversi studiosi avevano notato l’analogia del sogno con diverse condizioni di malattia mentale durante la veglia</a:t>
            </a:r>
            <a:br>
              <a:rPr sz="2800"/>
            </a:b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metodo della psicoanalisi (libere associazioni) ha dato eccellenti risultati  nella soluzione di deliri, fobie e ossessioni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Questo metodo appariva promettente anche per la spiegazione del sogno: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 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 sogni, come le ossessioni e le fobie sono estranei alla coscienza vigil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’origine dei sogni, come quella dei sintomi , sfugge alla coscienza vigil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659"/>
                </a:solidFill>
                <a:latin typeface="Arial"/>
              </a:rPr>
              <a:t>Un esempio di interpretazione</a:t>
            </a:r>
            <a:r>
              <a:rPr b="0" lang="it-IT" sz="4400" spc="-1" strike="noStrike">
                <a:solidFill>
                  <a:srgbClr val="fff65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0773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Si parte dal racconto del sogn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 sogno viene scomposto nei suoi elementi 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Vengono comunicate le associazioni che si riferiscono ad ognuno di questi elementi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Seguendo la catena associativa che parte da un elemento del contenuto del sogno si  viene ricondotti ad un altro elemento dello stesso contenut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 pensieri sul sogno stabiliscono dei collegamenti non visibili nel sogno stess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Seguendo le associazioni si arriva a una serie di pensieri di grande valore per la vita psichica del sognator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45684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materiale che si ottiene è in intima relazione con il contenuto del sogno ma questo nuovo materiale non poteva essere ricavato dal contenuto del sogn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e catene associative convergono in un “nodo centrale”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sogno si presenta allora come un sostituto di quelle idee cariche di affetto e significato rintracciate con il procedimento di analisi del sogn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contenuto del sogno </a:t>
            </a: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- il contenuto onirico manifesto 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è più breve dei pensieri di cui è sostituto </a:t>
            </a: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il contenuto onirico latente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sogno è suggerito da un avvenimento recent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659"/>
                </a:solidFill>
                <a:latin typeface="Arial"/>
              </a:rPr>
              <a:t>I Problemi</a:t>
            </a:r>
            <a:endParaRPr b="0" lang="en-US" sz="44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37"/>
                </a:solidFill>
                <a:latin typeface="Arial"/>
              </a:rPr>
              <a:t>Quale processo psichico ha operato la traduzione del contenuto latente in contenuto manifesto?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37"/>
                </a:solidFill>
                <a:latin typeface="Arial"/>
              </a:rPr>
              <a:t>Quale motivo ha reso necessaria questa traduzione?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37"/>
                </a:solidFill>
                <a:latin typeface="Arial"/>
              </a:rPr>
              <a:t>Il lavoro onirico trasforma il contenuto latente in contenuto manifesto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437"/>
                </a:solidFill>
                <a:latin typeface="Arial"/>
              </a:rPr>
              <a:t>Il lavoro di analisi, che va in senso inverso al lavoro onirico, permette di trovare il contenuto latent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31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Il </a:t>
            </a:r>
            <a:r>
              <a:rPr b="1" lang="it-IT" sz="2400" spc="-1" strike="noStrike">
                <a:solidFill>
                  <a:srgbClr val="fff437"/>
                </a:solidFill>
                <a:latin typeface="Arial"/>
              </a:rPr>
              <a:t>lavoro onirico è un lavoro di trasformazione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I sogni dei bambini: esaudiscono dei desideri rimasti inappagati il giorno prima. 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437"/>
                </a:solidFill>
                <a:latin typeface="Arial"/>
              </a:rPr>
              <a:t>Sono semplici appagamenti di desiderio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437"/>
                </a:solidFill>
                <a:latin typeface="Arial"/>
              </a:rPr>
              <a:t>Sono in connessione con la vita diurna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I sogni degli adulti, anche quelli apparentemente chiari 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437"/>
                </a:solidFill>
                <a:latin typeface="Arial"/>
              </a:rPr>
              <a:t>sono più complessi di quelli dei bambini,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43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437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fff437"/>
                </a:solidFill>
                <a:latin typeface="Arial"/>
              </a:rPr>
              <a:t>dietro  la rappresentazione di un desiderio soddisfatto si nasconde un altro (o più di un altro) desiderio, un altro significato</a:t>
            </a:r>
            <a:endParaRPr b="0" lang="en-US" sz="20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437"/>
                </a:solidFill>
                <a:latin typeface="Arial"/>
              </a:rPr>
              <a:t>tutti i sogni mostrano il desiderio come già soddisfatto</a:t>
            </a: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437"/>
                </a:solidFill>
                <a:latin typeface="Arial"/>
              </a:rPr>
              <a:t>Il pensiero “Vorrei..” </a:t>
            </a:r>
            <a:r>
              <a:rPr b="1" lang="it-IT" sz="2400" spc="-1" strike="noStrike">
                <a:solidFill>
                  <a:srgbClr val="fff437"/>
                </a:solidFill>
                <a:latin typeface="Arial"/>
              </a:rPr>
              <a:t>viene tradotto in una serie di immagini date nel tempo presente</a:t>
            </a:r>
            <a:endParaRPr b="0" lang="en-US" sz="2400" spc="-1" strike="noStrike">
              <a:solidFill>
                <a:srgbClr val="fff437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094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437"/>
                </a:solidFill>
                <a:latin typeface="Arial"/>
              </a:rPr>
              <a:t>Come si forma il sogno</a:t>
            </a:r>
            <a:endParaRPr b="0" lang="en-US" sz="32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59"/>
                </a:solidFill>
                <a:latin typeface="Arial"/>
              </a:rPr>
              <a:t>Come opera il lavoro onirico</a:t>
            </a:r>
            <a:endParaRPr b="0" lang="en-US" sz="3200" spc="-1" strike="noStrike">
              <a:solidFill>
                <a:srgbClr val="fff65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lavoro onirico </a:t>
            </a:r>
            <a:r>
              <a:rPr b="1" lang="it-IT" sz="2800" spc="-1" strike="noStrike">
                <a:solidFill>
                  <a:srgbClr val="fff437"/>
                </a:solidFill>
                <a:latin typeface="Arial"/>
              </a:rPr>
              <a:t>condensa 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pensieri diversi in una unica immagine: da ogni elemento del sogno partono fili associativi che vanno in direzioni divers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Le varie componenti utilizzate per costruir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“</a:t>
            </a: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lavoro onirico procede come Francis Galton nella preparazione delle sue foto di famiglia”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Persone diverse vengono contratte in un’unica persona, sommate, equiparate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4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437"/>
                </a:solidFill>
                <a:latin typeface="Arial"/>
              </a:rPr>
              <a:t>Il sogno sostituisce l’alternativa  (“o-o” con una somma (“e-e”)</a:t>
            </a: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43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6:38:22Z</dcterms:created>
  <dc:creator>******* ********* **************</dc:creator>
  <dc:description/>
  <dc:language>en-US</dc:language>
  <cp:lastModifiedBy>Dona</cp:lastModifiedBy>
  <dcterms:modified xsi:type="dcterms:W3CDTF">2007-06-23T18:29:28Z</dcterms:modified>
  <cp:revision>4</cp:revision>
  <dc:subject/>
  <dc:title>Il sogno e l’Inconscio</dc:title>
</cp:coreProperties>
</file>