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F6F-95DF-463C-972D-6137042A5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B1E1-9E59-450D-8417-7958EF0F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828B-72D8-4B3F-B32C-C883BE5C3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0D97-A06D-4093-9736-720D1A66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5734-C228-4AFB-884D-EFF2999F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141-4631-4B8F-8BFC-D6B87DE6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57F-0208-4E8B-B9AC-E5D72198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553-8FE0-41D4-96E6-FF12DAF5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272F-EC65-4151-A6F0-35D644F8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93F1-D607-4824-9D90-24B275F0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90C-F009-424F-A6A3-027D8A13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72E-80C5-41D4-9E7E-57ED92FE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ffff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ffff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ffff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A0A70-1D2C-475D-8F94-E736695A1532}" type="slidenum">
              <a:rPr b="0" lang="it-IT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Compendio di psicoanalisi:1938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spone i concetti fondamentali della psicoanalisi: “nella forma più concisa possibile e con il massimo rigore terminologico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li asserti della psicoanalisi sono basati su una quantità enorme di osservazioni ed esperienze”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a teoria delle pulsion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e pulsioni possono mutare la loro meta, possono sostituirsi l’un l’altra poiché l’energia di una pulsione può spostarsi su un’altr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e due pulsioni fondamentali sono sono L’Eros e la pulsione di distruzion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Nell’Eros ricade il contrasto fra pulsione di autoconservazione e amore oggettuale la meta dell’Eros è stabilire unità sempre più vaste e tenerle in vit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a meta della pulsione di distruzione è dissolvere i legami e distruggere le cose, per questo è indicata come pulsione di mort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I due gruppi di pulsion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lle funzioni biologiche i due gruppi di pulsioni agiscono insieme o si combinano: mangiare, atto sessuale come esemp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lla loro cooperazione e dal loro contrasto hanno origine i molteplici e variopinti fenomeni dell’esistenz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 modificazioni nel rapporto di mescolanza fra le pulsioni hanno conseguenze fortemente evident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e due pulsioni possono essere rintracciate in tutte e tre le strutture psichich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a libido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’energia di cui dispongono le pulsioni dell’Eros è indicata come libido: all’inizio della vita  la libido è concentrata totalmente nell’Io-Es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a pulsione di morte rimane muta finchè agisce all’interno  la avvertiamo solo quando si manifesta all’esterno come pulsione distruttiva : collocare all’esterno la pulsione distruttiva è una necessità per la conservazione dell’individu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Con l’istituzione del super-io importi considerevoli di pulsione aggressiva vengono fissati all’interno dell’io e agiscono in senso autodistruttiv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Aggressività e civiltà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a libido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All’inizio della vita tutta la libido è ammassata nell’Io: chiamiamo questo stato “Narcisismo primario assoluto”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Il narcisismo primario regge fino a quando l’Io incomincia ad investire libidicamente gli oggetti trasformando la libido narcisistica in libido oggettua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Per tutta la vita l’io rimane il serbatoio da cui vengono emanati gli investimenti libici sugli oggetti e da cui questi investimenti possono essere ritirat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Uno dei caratteri fondamentali della libido è la sua mobilità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e fonti della libido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696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a libido affluisce all’Io da varie zone del corpo: le sue fonti sono somatich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Cioò si vede meglio in quella componente della libido che in base alla sua meta pulsionale è chiamata eccitamento sessua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e più importanti zone corporee da cui proviene questa libido sono note con il nome di zone erogene, ma in realtà tutto il corpo è una zona erogen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Ciò che sappiamo dell’Eros e della libido lo abbiamo ricavato dallo studio della funzione sessuale. Le pulsioni parzial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’apparato psichico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Della nostra vita psichica ci sono note due cose: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L’organo fisico e il suo scenario(il cervello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I nostri atti di coscienza che ci sono dati immediatamente e  che nessuna descrizione potrebbe farci comprendere più da vicin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lvl="1" marL="601560" indent="-231480">
              <a:spcBef>
                <a:spcPts val="601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utto ciò che sta in mezzo ci è sconosciut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77560" indent="-27756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Supponiamo che la nostra vita psichica sia funzione di un apparato al quale ascriviamo estensione spaziale e struttura composita e che ci figuriamo simile ad un cannocchiale….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a struttura “composita”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Es: la più antica di queste province o istanze psichiche. Contiene tutto ciò che è ereditato, presente fin dalla nascita, innanzitutto le pulsion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Io: evoluzione della parte superficiale dell’Es prodotta dall’”influsso del mondo reale che ci circonda”: Ricezione degli stimoli. Scudo protettivo contro gli stimoli, mediazione fra Es e mondo estern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Il suo compito è l’autoconservazione: conoscenza del mondo esterno, controllo delle richieste pulsionali decidendo come e quando soddisfarle, rinviando il soddisfacimento, reprimendo gli eccitamenti prodotti dalle pulsioni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I caratteri principali dell’Io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lla sua attività l’io è guidato dalla considerazione delle tensioni prodotte dagli stimoli che in lui sono stati prodotti o sono present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’esaltarsi di queste tensioni è avvertito come dispiacere, il loro ridursi come piace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mportanza del ritmo delle tension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’Io aspira al piacere e si sforza di eludere il dispiace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Risponde con un segnale d’angoscia ad un incremento atteso e previsto di dispiacer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’Io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l sonno l’Io allenta il suo legame con il mondo esterno e modifica la sua organizzazione, che consiste in una particolare ripartizione dell’energia psichic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all’Io , “come sedimento del protrarsi dell’età infantile” e della sua protratta dipendenza dai genitori si sviluppa il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er-i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67480" indent="-26748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Nella misura in cui il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uper-io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si differenzia dall’Io e gli si contrappon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rappresenta il terzo potere a cui l’Io deve render con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66"/>
                </a:solidFill>
                <a:latin typeface="Times New Roman"/>
              </a:rPr>
              <a:t>Es  Io  Super-io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’azione dell’Io è corretta se si dimostra all’altezza delle esigenze dell’Es, del super-io e della realtà e cioè se riesce a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 algn="ctr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Times New Roman"/>
              </a:rPr>
              <a:t>conciliare le pretese diverse di queste istanze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e caratteristiche della relazione fra ES, Io e Super-io diventano comprensibili se ci si rifà al rapporto del bambino con i genitor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Il Super-io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’influenza che i genitori esercitano sul bambino non dipende solo dalla natura personale dei genitori …ma anche dalle esigenze di un determinato ambiente sociale che essi rappresentan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l Super-io, man mano che la persona cresce, accoglie apporti provenienti da persone che continuano o sostituiscono l’influsso dei genitori ( Personaggi pubblici, educatori, ideali socialmente ammirati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e strutture psichiche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’Es rappresenta gli influssi del passato, l’influsso di ciò che l’individuo ha ereditat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’Io è determinato da ciò che la persona ha sperimentato direttamente, dunque dipende da “eventi accidentali e attuali”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Il Super-io rappresenta ciò che l’individuo ha recepito da altre person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’ipotesi di una separazione fra Io e Es è inevitabil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Times New Roman"/>
              </a:rPr>
              <a:t>La teoria delle pulsioni</a:t>
            </a:r>
            <a:endParaRPr b="0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a potenza dell’Es esprime il vero intento vitale del singolo: soddisfare i suoi bisogni innat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Chiamiamo pulsioni le forze che stanno dietro ai bisogni: rappresentano le richieste corporee avanzate alla vita psichica, la loro natura è conservatrice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Da ogni stato che un organismo ha raggiunto, non appena esso è stato abbandonato, si diparte una tendenza a ripristinarlo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 marL="274320" indent="-274320">
              <a:spcBef>
                <a:spcPts val="700"/>
              </a:spcBef>
              <a:buClr>
                <a:srgbClr val="ffff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Le innumerevoli pulsioni possono essere ridotte ad un esiguo numero di pulsioni fondamentali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05:32:48Z</dcterms:created>
  <dc:creator>Francesca</dc:creator>
  <dc:description/>
  <dc:language>en-US</dc:language>
  <cp:lastModifiedBy>Dona</cp:lastModifiedBy>
  <dcterms:modified xsi:type="dcterms:W3CDTF">2007-06-23T18:30:36Z</dcterms:modified>
  <cp:revision>4</cp:revision>
  <dc:subject/>
  <dc:title>Compendio di psicoanalisi:1938</dc:title>
</cp:coreProperties>
</file>