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72288" cy="100615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EB5F6-7926-4CD8-87FD-C12A0B139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5B065-1BBE-4491-9160-16E39066C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F6375-8A03-4273-B67B-5901C0307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A4C07-C3C3-42C8-BFA7-EB2C2C97B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5AAE6-F29D-4B9B-9445-B8B83371F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46D91-0BAC-46BF-BB60-D1EBE0013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2F585-6D60-4CCE-8ABD-6E701D62F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4D7F8-2D9D-4804-B0FB-08BE60DE1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DFD03-F133-4213-A522-79DDB7221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DD988-10AF-4995-893E-4C2EF2083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965F4-13AC-41CC-91D7-30215F30E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362B0-EF5B-458F-B159-3880E0E16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34101-026B-453C-9432-17F5DF287F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27T15:43:00Z</dcterms:created>
  <dc:creator>Universidad San Sebastian</dc:creator>
  <dc:description/>
  <dc:language>en-US</dc:language>
  <cp:lastModifiedBy>.</cp:lastModifiedBy>
  <dcterms:modified xsi:type="dcterms:W3CDTF">2006-10-18T19:33:23Z</dcterms:modified>
  <cp:revision>10</cp:revision>
  <dc:subject/>
  <dc:title>Sin título de diapositiva</dc:title>
</cp:coreProperties>
</file>