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A54-DDB1-444A-A966-4894DBB0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A188-BB33-4B0B-961B-9380F988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4BFA-EDBB-477D-B4DD-CF87B7CD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7FA-B2F0-4364-8314-7D6408FF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171-90FE-49A2-934E-61546156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944-F882-4188-8743-A28F6C5F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731-1535-4675-B6A7-708A6A6C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5BA-7FBB-43B2-B284-00003C19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F0F-8356-4CF3-BFAA-7890F6BA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2CE-C647-4C6F-AA8E-07E2BA18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0867-BD69-40ED-A412-3EA98DB2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8DC0-ACEA-4D94-BF4E-A1E0DFFB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c6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c6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c6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c6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c6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c6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c6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c6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c6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c6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c6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c6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1130-12F8-4D5A-B910-CFA0F07F90BD}" type="slidenum">
              <a:rPr b="0" lang="it-IT" sz="1400" spc="-1" strike="noStrike">
                <a:solidFill>
                  <a:srgbClr val="fffc6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Il metodo delle associazioni “libere</a:t>
            </a:r>
            <a:endParaRPr b="0" lang="en-US" sz="2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a tecnica delle libere associazioni conserva alcune caratteristiche dell’ipnotismo: Posizione del paziente; Ambiente tranquillo, Il paziente è  un osservatore passivo del proprio flusso di coscienza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l metodo delle libere associazioni permette di rendere accessibile l’inconscio alla coscienza, superando le resistenze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l trattamento che utilizza le libere associazioni si prefigge la guarigione pratica del malato, cioè il recupero delle sue capacità di prestazione e di godimento 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iuta l’analista a individuare i segreti del paziente, cioè i suoi desideri inconsci, e ad affrontare le difese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d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d27"/>
                </a:solidFill>
                <a:latin typeface="Arial"/>
              </a:rPr>
              <a:t>SIGNO</a:t>
            </a:r>
            <a:r>
              <a:rPr b="1" lang="it-IT" sz="2400" spc="-1" strike="noStrike">
                <a:solidFill>
                  <a:srgbClr val="fffc68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c68"/>
                </a:solidFill>
                <a:latin typeface="Arial"/>
              </a:rPr>
              <a:t>ELLI     </a:t>
            </a:r>
            <a:r>
              <a:rPr b="1" lang="it-IT" sz="2400" spc="-1" strike="noStrike">
                <a:solidFill>
                  <a:srgbClr val="00b000"/>
                </a:solidFill>
                <a:latin typeface="Arial"/>
              </a:rPr>
              <a:t>BO</a:t>
            </a:r>
            <a:r>
              <a:rPr b="0" lang="it-IT" sz="2400" spc="-1" strike="noStrike">
                <a:solidFill>
                  <a:srgbClr val="fffc68"/>
                </a:solidFill>
                <a:latin typeface="Arial"/>
              </a:rPr>
              <a:t>TTICELLI       BOL</a:t>
            </a:r>
            <a:r>
              <a:rPr b="1" lang="it-IT" sz="2400" spc="-1" strike="noStrike">
                <a:solidFill>
                  <a:srgbClr val="ffe701"/>
                </a:solidFill>
                <a:latin typeface="Arial"/>
              </a:rPr>
              <a:t>TRAF</a:t>
            </a:r>
            <a:r>
              <a:rPr b="0" lang="it-IT" sz="2400" spc="-1" strike="noStrike">
                <a:solidFill>
                  <a:srgbClr val="fffc68"/>
                </a:solidFill>
                <a:latin typeface="Arial"/>
              </a:rPr>
              <a:t>FIO</a:t>
            </a:r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84320" y="1995480"/>
            <a:ext cx="117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733920"/>
            <a:ext cx="2819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d27"/>
                </a:solidFill>
                <a:latin typeface="Arial"/>
              </a:rPr>
              <a:t>SIGNORE</a:t>
            </a:r>
            <a:endParaRPr b="0" lang="en-US" sz="2400" spc="-1" strike="noStrike">
              <a:solidFill>
                <a:srgbClr val="fffc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c68"/>
                </a:solidFill>
                <a:latin typeface="Arial"/>
              </a:rPr>
              <a:t>Che ho da dire?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762120"/>
            <a:ext cx="0" cy="685800"/>
          </a:xfrm>
          <a:prstGeom prst="line">
            <a:avLst/>
          </a:prstGeom>
          <a:ln w="9360">
            <a:solidFill>
              <a:srgbClr val="fffc6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5680" y="1676520"/>
            <a:ext cx="227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d27"/>
                </a:solidFill>
                <a:latin typeface="Arial"/>
              </a:rPr>
              <a:t>Her</a:t>
            </a:r>
            <a:r>
              <a:rPr b="0" lang="it-IT" sz="2400" spc="-1" strike="noStrike">
                <a:solidFill>
                  <a:srgbClr val="fffc68"/>
                </a:solidFill>
                <a:latin typeface="Arial"/>
              </a:rPr>
              <a:t>zegovina</a:t>
            </a:r>
            <a:endParaRPr b="0" lang="en-US" sz="2400" spc="-1" strike="noStrike">
              <a:solidFill>
                <a:srgbClr val="fffc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c68"/>
                </a:solidFill>
                <a:latin typeface="Arial"/>
              </a:rPr>
              <a:t>(Herr = Signore</a:t>
            </a:r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1523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00"/>
                </a:solidFill>
                <a:latin typeface="Arial"/>
              </a:rPr>
              <a:t>Bo</a:t>
            </a:r>
            <a:r>
              <a:rPr b="0" lang="en-US" sz="2400" spc="-1" strike="noStrike">
                <a:solidFill>
                  <a:srgbClr val="fffc68"/>
                </a:solidFill>
                <a:latin typeface="Arial"/>
              </a:rPr>
              <a:t>snia</a:t>
            </a:r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609480"/>
            <a:ext cx="0" cy="3048120"/>
          </a:xfrm>
          <a:prstGeom prst="line">
            <a:avLst/>
          </a:prstGeom>
          <a:ln w="9360">
            <a:solidFill>
              <a:srgbClr val="fffc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733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TRAF</a:t>
            </a:r>
            <a:r>
              <a:rPr b="1" lang="en-US" sz="2000" spc="-1" strike="noStrike">
                <a:solidFill>
                  <a:srgbClr val="fffc68"/>
                </a:solidFill>
                <a:latin typeface="Arial"/>
              </a:rPr>
              <a:t>OI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486040" y="4114800"/>
            <a:ext cx="1676520" cy="1523880"/>
          </a:xfrm>
          <a:prstGeom prst="line">
            <a:avLst/>
          </a:prstGeom>
          <a:ln w="9360">
            <a:solidFill>
              <a:srgbClr val="fffc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4495680"/>
            <a:ext cx="0" cy="609840"/>
          </a:xfrm>
          <a:prstGeom prst="line">
            <a:avLst/>
          </a:prstGeom>
          <a:ln w="9360">
            <a:solidFill>
              <a:srgbClr val="fffc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5181480"/>
            <a:ext cx="533520" cy="0"/>
          </a:xfrm>
          <a:prstGeom prst="line">
            <a:avLst/>
          </a:prstGeom>
          <a:ln w="9360">
            <a:solidFill>
              <a:srgbClr val="fffc6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48006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c68"/>
                </a:solidFill>
                <a:latin typeface="Arial"/>
              </a:rPr>
              <a:t>Morte e sessualità</a:t>
            </a:r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5638680"/>
            <a:ext cx="1066680" cy="152640"/>
          </a:xfrm>
          <a:prstGeom prst="line">
            <a:avLst/>
          </a:prstGeom>
          <a:ln w="9360">
            <a:solidFill>
              <a:srgbClr val="fffc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5935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5867280"/>
            <a:ext cx="47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72160" y="5789520"/>
            <a:ext cx="29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c68"/>
                </a:solidFill>
                <a:latin typeface="Arial"/>
              </a:rPr>
              <a:t>Pensieri rimossi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334120" y="4266720"/>
            <a:ext cx="1218960" cy="1143000"/>
          </a:xfrm>
          <a:prstGeom prst="line">
            <a:avLst/>
          </a:prstGeom>
          <a:ln w="9360">
            <a:solidFill>
              <a:srgbClr val="fffc6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1599840"/>
            <a:ext cx="0" cy="1981080"/>
          </a:xfrm>
          <a:prstGeom prst="line">
            <a:avLst/>
          </a:prstGeom>
          <a:ln w="9360">
            <a:solidFill>
              <a:srgbClr val="fffc6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685800"/>
            <a:ext cx="0" cy="914400"/>
          </a:xfrm>
          <a:prstGeom prst="line">
            <a:avLst/>
          </a:prstGeom>
          <a:ln w="9360">
            <a:solidFill>
              <a:srgbClr val="fffc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952880" y="685440"/>
            <a:ext cx="1067040" cy="1066680"/>
          </a:xfrm>
          <a:prstGeom prst="line">
            <a:avLst/>
          </a:prstGeom>
          <a:ln w="9360">
            <a:solidFill>
              <a:srgbClr val="fffc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343400" y="762120"/>
            <a:ext cx="1523880" cy="914400"/>
          </a:xfrm>
          <a:prstGeom prst="line">
            <a:avLst/>
          </a:prstGeom>
          <a:ln w="9360">
            <a:solidFill>
              <a:srgbClr val="fffc6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114800" y="837720"/>
            <a:ext cx="0" cy="685800"/>
          </a:xfrm>
          <a:prstGeom prst="line">
            <a:avLst/>
          </a:prstGeom>
          <a:ln w="9360">
            <a:solidFill>
              <a:srgbClr val="fffc6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609480"/>
            <a:ext cx="0" cy="3200400"/>
          </a:xfrm>
          <a:prstGeom prst="line">
            <a:avLst/>
          </a:prstGeom>
          <a:ln w="9360">
            <a:solidFill>
              <a:srgbClr val="fffc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762120"/>
            <a:ext cx="0" cy="1752480"/>
          </a:xfrm>
          <a:prstGeom prst="line">
            <a:avLst/>
          </a:prstGeom>
          <a:ln w="9360">
            <a:solidFill>
              <a:srgbClr val="fffc6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le associazioni “libere” e l’interpretazione</a:t>
            </a:r>
            <a:endParaRPr b="0" lang="en-US" sz="28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L’interpretazione: mette in in luce i pensieri rimossi, ricostruendo dalle idee improvvise del paziente il materiale inconscio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 sintomi hanno un senso come gli atti mancati e come i sogni e sono in intima relazione con le esperienze dei malati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l senso del sintomo: deriva da una relazione con le esperienze del malato      situazione passata nella quale l’idea era giustificata e l’azione rispondeva a un fine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MODELLO TOPOGRAFICO</a:t>
            </a:r>
            <a:endParaRPr b="0" lang="en-US" sz="18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c6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c6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 dati ottenuti dalla ’interpretazione dei sogni e dall’impiego del metodo delle libere associazioni portano Freud a descrivere il funzionamento della mente in termini “spaziali”.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DELLO TOPOGRAFICO : LE FUNZIONI PSICOLOGICHE SONO “COLLOCATE” IN LUOGHI o SISTEMI DIFFERENTI  (L’interpretazione dei sogni: 1900)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Questi sistemi hanno tre caratteristiche fondamentali: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volgono una certa funzione: fanno qualcosa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nno degli input: qualcosa entra nel sistema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nno degli output: qualcosa lascia il sistema o viene scaricato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Modello topografico descrive alcune funzioni della mente e i processi mentali e la loro relazione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 mente è disegnata come un insieme di tre sottosistemi 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’Inconscio (Inc)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Preconscio (Prec)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 Coscienza (C)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04920"/>
            <a:ext cx="78487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c68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ffff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Comic Sans MS"/>
              </a:rPr>
              <a:t>I TRE SISTEMI DEL MODELLO TOPOGRAFICO</a:t>
            </a:r>
            <a:endParaRPr b="0" lang="en-US" sz="16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SISTEMA INCONSCIO  (Inc)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 processi psichici in quanto tali sono inconsci…allo stesso modo della realtà fisica la realtà psichica non è necessariamente quale ci appare 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rimosso è parte dell’inconscio conosciamo l’inconscio soltanto dopo che si è trasformato o tradotto in qualcosa di conscio 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lavoro psicoanalitico permette di sperimentare che una traduzione del genere è possibile: il soggetto in analisi deve però supparre determinate resistenze. Le stesse responsabili della rimozione 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rimosso è parte dell’inconscio  contiene idee e sentimenti inaccettabili 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unziona in base al processo primario: le leggi del tempo e dello spazio e della distinzione degli opposti non trovano applicazione non c’è distinzione fra passato e presente e futuro un simbolo può rappresentare un gran numero di oggetti diversi o avere molti significato persino contraddittori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c68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SISTEMA PRECONSCIO (Prec</a:t>
            </a: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)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ntiene idee e sentimenti accettabili, inconsci solo in senso descrittivo che possono essere portati facilmente alla coscienza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n sono soggetti a rimozione né alle distorsioni del processo primarioè un serbatorio di pensieri e ricordi accessibili 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omic Sans MS"/>
              </a:rPr>
              <a:t>Il sistema preconscio lega le “pitture” mentali alle parole (rappresentazioni di parole), è </a:t>
            </a:r>
            <a:r>
              <a:rPr b="0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trutturato linguisticamente si conforma a nome logiche e può dunque rappresnetare pensiero. 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ffinché un contenuto mentale si sposti dall’Inc al Prec deve essere trascritto in un linguaggio.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è un censore capace di modificare i desideri istintuali del sistema inconscio e renderli accettabili al conscio 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omic Sans MS"/>
              </a:rPr>
              <a:t>Possiamo diventare consapevoli  dei contenuti mentali solo se passano dal Sistema Inconscio al sistema Preconscio. 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omic Sans MS"/>
              </a:rPr>
              <a:t>Gli elementi che passano dall’Inc al Prec devono passare attraverso un “censore” che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omic Sans MS"/>
              </a:rPr>
              <a:t>determina quali pensieri possono mentalmente essere messi in parole e quindi resi accessibili alla coscienza 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omic Sans MS"/>
              </a:rPr>
              <a:t>previene lo scoppio di dolore incontrollabile (colpa, rabbia, panico</a:t>
            </a:r>
            <a:r>
              <a:rPr b="0" lang="it-IT" sz="10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10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c6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SISTEMA  CONSCIO (C)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ntiene idee e sentimenti accettabili, è razionale e segue le consuete  leggi logiche, temporali e spaziali (processo secondario) 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it-IT" sz="1400" spc="-1" strike="noStrike">
                <a:solidFill>
                  <a:srgbClr val="ffff00"/>
                </a:solidFill>
                <a:latin typeface="Comic Sans MS"/>
              </a:rPr>
              <a:t>’ingresso alla coscienza</a:t>
            </a:r>
            <a:r>
              <a:rPr b="0" lang="it-IT" sz="1200" spc="-1" strike="noStrike">
                <a:solidFill>
                  <a:srgbClr val="ffff00"/>
                </a:solidFill>
                <a:latin typeface="Comic Sans MS"/>
              </a:rPr>
              <a:t> è controllato da un censore che separa Prec e C</a:t>
            </a:r>
            <a:endParaRPr b="0" lang="en-US" sz="1200" spc="-1" strike="noStrike">
              <a:solidFill>
                <a:srgbClr val="fffc6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c6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6"/>
                </a:solidFill>
                <a:latin typeface="Arial"/>
              </a:rPr>
              <a:t>UN ESEMPIO</a:t>
            </a: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c68"/>
                </a:solidFill>
                <a:latin typeface="Arial"/>
              </a:rPr>
              <a:t>La dimenticanza di nomi propri motivata dalla rimozione: 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c68"/>
                </a:solidFill>
                <a:latin typeface="Arial"/>
              </a:rPr>
              <a:t>Come recuperare il nome perduto e come spiegare la comparsa di nomi sostitutivi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c68"/>
                </a:solidFill>
                <a:latin typeface="Arial"/>
              </a:rPr>
              <a:t>Il meccanismo che spiega questo fenomeno vale come modello dei processi patologici che producono i sintomi psichici delle psiconevrosi 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30000">
                <a:solidFill>
                  <a:srgbClr val="ffff36"/>
                </a:solidFill>
                <a:latin typeface="Bookman Old Style"/>
              </a:rPr>
              <a:t>Come funziona la tecnica delle libere associazioni</a:t>
            </a:r>
            <a:endParaRPr b="0" lang="en-US" sz="32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La dimenticanza dei nomi propri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Qual’è il fenomeno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: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 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Improvvisamente non si riesce a ricordare nome proprio che fino allora ben noto 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Lo sforzo per ritrovarlo non produce nessun effetto e al posto del nome cercato se ne presenta un altro con insistenza 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La persona sa che questo nome sostitutivo non è quello cercato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, lo scarta e si sente infastidita e preoccupata per la dimenticanza: </a:t>
            </a: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la dimenticanza è accompagnata da un falso ricordo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Di solito il modo migliore per ritrovare il nome dimenticato è “</a:t>
            </a: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non pensarci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”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L’analisi psichica permette di spiegare sia la dimenticanza, sia la comparsa del falso ricordo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baseline="30000">
                <a:solidFill>
                  <a:srgbClr val="ffff36"/>
                </a:solidFill>
                <a:latin typeface="Bookman Old Style"/>
              </a:rPr>
              <a:t>Un esempio</a:t>
            </a: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baseline="30000">
                <a:solidFill>
                  <a:srgbClr val="fffc68"/>
                </a:solidFill>
                <a:latin typeface="Bookman Old Style"/>
              </a:rPr>
              <a:t>In un viaggio da Ragusa alla </a:t>
            </a:r>
            <a:r>
              <a:rPr b="1" lang="it-IT" sz="4000" spc="-1" strike="noStrike" baseline="30000">
                <a:solidFill>
                  <a:srgbClr val="fffc68"/>
                </a:solidFill>
                <a:latin typeface="Bookman Old Style"/>
              </a:rPr>
              <a:t>Herzegovina</a:t>
            </a:r>
            <a:r>
              <a:rPr b="0" lang="it-IT" sz="4000" spc="-1" strike="noStrike" baseline="30000">
                <a:solidFill>
                  <a:srgbClr val="fffc68"/>
                </a:solidFill>
                <a:latin typeface="Bookman Old Style"/>
              </a:rPr>
              <a:t>, nella conversazione con un compagno di viaggio Freud non riesce a ricordare il nome del pittore; </a:t>
            </a:r>
            <a:r>
              <a:rPr b="1" lang="it-IT" sz="4000" spc="-1" strike="noStrike" baseline="30000">
                <a:solidFill>
                  <a:srgbClr val="fffc68"/>
                </a:solidFill>
                <a:latin typeface="Bookman Old Style"/>
              </a:rPr>
              <a:t>Signorelli,</a:t>
            </a:r>
            <a:r>
              <a:rPr b="0" lang="it-IT" sz="4000" spc="-1" strike="noStrike" baseline="30000">
                <a:solidFill>
                  <a:srgbClr val="fffc68"/>
                </a:solidFill>
                <a:latin typeface="Bookman Old Style"/>
              </a:rPr>
              <a:t> che ha affrescato il duomo di Orvieto. Al posto del nome cercato compaiono i nomi di </a:t>
            </a:r>
            <a:r>
              <a:rPr b="1" lang="it-IT" sz="4000" spc="-1" strike="noStrike" baseline="30000">
                <a:solidFill>
                  <a:srgbClr val="fffc68"/>
                </a:solidFill>
                <a:latin typeface="Bookman Old Style"/>
              </a:rPr>
              <a:t>Botticelli</a:t>
            </a:r>
            <a:r>
              <a:rPr b="0" lang="it-IT" sz="4000" spc="-1" strike="noStrike" baseline="30000">
                <a:solidFill>
                  <a:srgbClr val="fffc68"/>
                </a:solidFill>
                <a:latin typeface="Bookman Old Style"/>
              </a:rPr>
              <a:t> e di </a:t>
            </a:r>
            <a:r>
              <a:rPr b="1" lang="it-IT" sz="4000" spc="-1" strike="noStrike" baseline="30000">
                <a:solidFill>
                  <a:srgbClr val="fffc68"/>
                </a:solidFill>
                <a:latin typeface="Bookman Old Style"/>
              </a:rPr>
              <a:t>Boltraffio “decisamente rifiutati perché sbagliati. Quando il nome esatto mi fu comunicato lo riconobbi immediatamente e senza esitazione”</a:t>
            </a:r>
            <a:endParaRPr b="0" lang="en-US" sz="40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1920" y="6094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baseline="30000">
                <a:solidFill>
                  <a:srgbClr val="fffc68"/>
                </a:solidFill>
                <a:latin typeface="Bookman Old Style"/>
              </a:rPr>
              <a:t>Il motivo della dimenticanza del nome </a:t>
            </a:r>
            <a:r>
              <a:rPr b="1" lang="it-IT" sz="3600" spc="-1" strike="noStrike" baseline="30000">
                <a:solidFill>
                  <a:srgbClr val="fffc68"/>
                </a:solidFill>
                <a:latin typeface="Bookman Old Style"/>
              </a:rPr>
              <a:t>non dipende dalla particolarità del nome stesso</a:t>
            </a:r>
            <a:r>
              <a:rPr b="0" lang="it-IT" sz="3600" spc="-1" strike="noStrike" baseline="30000">
                <a:solidFill>
                  <a:srgbClr val="fffc68"/>
                </a:solidFill>
                <a:latin typeface="Bookman Old Style"/>
              </a:rPr>
              <a:t>, il nome dimenticato, </a:t>
            </a:r>
            <a:r>
              <a:rPr b="1" lang="it-IT" sz="3600" spc="-1" strike="noStrike" baseline="30000">
                <a:solidFill>
                  <a:srgbClr val="fffc68"/>
                </a:solidFill>
                <a:latin typeface="Bookman Old Style"/>
              </a:rPr>
              <a:t>né dal contesto</a:t>
            </a:r>
            <a:r>
              <a:rPr b="0" lang="it-IT" sz="3600" spc="-1" strike="noStrike" baseline="30000">
                <a:solidFill>
                  <a:srgbClr val="fffc68"/>
                </a:solidFill>
                <a:latin typeface="Bookman Old Style"/>
              </a:rPr>
              <a:t> in cui la dimenticanza si è verificata</a:t>
            </a:r>
            <a:endParaRPr b="0" lang="en-US" sz="3600" spc="-1" strike="noStrike">
              <a:solidFill>
                <a:srgbClr val="fffc68"/>
              </a:solidFill>
              <a:latin typeface="Arial"/>
            </a:endParaRPr>
          </a:p>
          <a:p>
            <a:pPr marL="4798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baseline="30000">
                <a:solidFill>
                  <a:srgbClr val="fffc68"/>
                </a:solidFill>
                <a:latin typeface="Bookman Old Style"/>
              </a:rPr>
              <a:t>la </a:t>
            </a:r>
            <a:r>
              <a:rPr b="1" lang="it-IT" sz="3600" spc="-1" strike="noStrike" baseline="30000">
                <a:solidFill>
                  <a:srgbClr val="fffc68"/>
                </a:solidFill>
                <a:latin typeface="Bookman Old Style"/>
              </a:rPr>
              <a:t>dimenticanza si può però spiegare in relazione alle conversazioni precedenti</a:t>
            </a:r>
            <a:r>
              <a:rPr b="0" lang="it-IT" sz="3600" spc="-1" strike="noStrike" baseline="30000">
                <a:solidFill>
                  <a:srgbClr val="fffc68"/>
                </a:solidFill>
                <a:latin typeface="Bookman Old Style"/>
              </a:rPr>
              <a:t> (le usanze dei Turchi della </a:t>
            </a:r>
            <a:r>
              <a:rPr b="1" lang="it-IT" sz="3600" spc="-1" strike="noStrike" baseline="30000">
                <a:solidFill>
                  <a:srgbClr val="fffc68"/>
                </a:solidFill>
                <a:latin typeface="Bookman Old Style"/>
              </a:rPr>
              <a:t>Bosnia</a:t>
            </a:r>
            <a:r>
              <a:rPr b="0" lang="it-IT" sz="3600" spc="-1" strike="noStrike" baseline="30000">
                <a:solidFill>
                  <a:srgbClr val="fffc68"/>
                </a:solidFill>
                <a:latin typeface="Bookman Old Style"/>
              </a:rPr>
              <a:t> </a:t>
            </a:r>
            <a:r>
              <a:rPr b="1" lang="it-IT" sz="3600" spc="-1" strike="noStrike" baseline="30000">
                <a:solidFill>
                  <a:srgbClr val="fffc68"/>
                </a:solidFill>
                <a:latin typeface="Bookman Old Style"/>
              </a:rPr>
              <a:t>Herzegovina</a:t>
            </a:r>
            <a:r>
              <a:rPr b="0" lang="it-IT" sz="3600" spc="-1" strike="noStrike" baseline="30000">
                <a:solidFill>
                  <a:srgbClr val="fffc68"/>
                </a:solidFill>
                <a:latin typeface="Bookman Old Style"/>
              </a:rPr>
              <a:t>, la loro fiducia nel medico) : “quando si deve loro annunciare che non vi è rimedio per il malato ci si sente rispondere: “</a:t>
            </a:r>
            <a:r>
              <a:rPr b="1" lang="it-IT" sz="3600" spc="-1" strike="noStrike" baseline="30000">
                <a:solidFill>
                  <a:srgbClr val="fffc68"/>
                </a:solidFill>
                <a:latin typeface="Bookman Old Style"/>
              </a:rPr>
              <a:t>Herr</a:t>
            </a:r>
            <a:r>
              <a:rPr b="0" lang="it-IT" sz="3600" spc="-1" strike="noStrike" baseline="30000">
                <a:solidFill>
                  <a:srgbClr val="fffc68"/>
                </a:solidFill>
                <a:latin typeface="Bookman Old Style"/>
              </a:rPr>
              <a:t>, che ho da dire? se ci fosse stata la salvezza me l’avresti data” </a:t>
            </a:r>
            <a:endParaRPr b="0" lang="en-US" sz="36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marL="474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La serie delle idee sulle usanze dei Turchi aveva disturbato un pensiero successivo perché avevo distolto la mia attenzione da queste idee prima di comunicarle: </a:t>
            </a: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aveva evitato di comunicare intenzionalmente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 un secondo esempio, riguardante il diverso modo di reagire alla comunicazione di un </a:t>
            </a: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disturbo sessuale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 </a:t>
            </a: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data la delicatezza dell’argomento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 La frase non comunicata intenzionalmente al compagno di viaggio era la seguente: “Tu lo sai Herr che quando non si può far quello la vita non ha valore”  e </a:t>
            </a: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sposta la attenzione da una serie di pensieri riguardanti  il rapporto fra sessualità e morte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 (un suo paziente, che soffriva di un </a:t>
            </a: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inguaribile disturbo sessuale, si era suicidato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. Freud aveva avuto la notizia mentre si trovava a </a:t>
            </a: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Trafoi 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durante tutto il viaggio </a:t>
            </a: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il ricordo di quell’avvenimento non si era presentato alla sua memoria cosciente</a:t>
            </a:r>
            <a:r>
              <a:rPr b="0" lang="it-IT" sz="3200" spc="-1" strike="noStrike" baseline="30000">
                <a:solidFill>
                  <a:srgbClr val="fffc68"/>
                </a:solidFill>
                <a:latin typeface="Bookman Old Style"/>
              </a:rPr>
              <a:t> )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marL="474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nella sua analisi nota però che la sillaba </a:t>
            </a:r>
            <a:r>
              <a:rPr b="1" lang="en-US" sz="3200" spc="-1" strike="noStrike" baseline="30000">
                <a:solidFill>
                  <a:srgbClr val="fffc68"/>
                </a:solidFill>
                <a:latin typeface="Bookman Old Style"/>
              </a:rPr>
              <a:t>TRAF</a:t>
            </a: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  è la parte finale di uno dei nomi sostitutivi , BOL</a:t>
            </a:r>
            <a:r>
              <a:rPr b="1" lang="en-US" sz="3200" spc="-1" strike="noStrike" baseline="30000">
                <a:solidFill>
                  <a:srgbClr val="fffc68"/>
                </a:solidFill>
                <a:latin typeface="Bookman Old Style"/>
              </a:rPr>
              <a:t>TRAF</a:t>
            </a: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FIO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c68"/>
                </a:solidFill>
                <a:latin typeface="Bookman Old Style"/>
              </a:rPr>
              <a:t>Alla luce di questo scenario la dimenticanza del nome SIGNORELLI non appare più casuale ma è influenzata da un preciso motivo</a:t>
            </a: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: Interrompermi nella comunicazione dei pensieri sulle usanze dei Turchi e che “influivano perché escludessi dalla coscienza qualcosa che mi ricondotto alla notizia ricevuta a TRAFOI </a:t>
            </a:r>
            <a:r>
              <a:rPr b="1" lang="en-US" sz="3200" spc="-1" strike="noStrike" baseline="30000">
                <a:solidFill>
                  <a:srgbClr val="fffc68"/>
                </a:solidFill>
                <a:latin typeface="Bookman Old Style"/>
              </a:rPr>
              <a:t>Volevo dimenticare qualcosa, avevo RIMOSSO qualcosa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Il nome di SIGNORELLI  ( Signore in tedesco è HERR) era stato dimenticato perché si trovava in collegamento associativo con un altro  (HERZEGOVINA)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9140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e cioè si dimentica una cosa contro volontà mentre si vuole dimenticare intenzionalmente qualcos’altro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“ </a:t>
            </a: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La riluttanza a ricordare mirava a un dato contenuto; l’incapacità di ricordare si manifestava per un contenuto diverso”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“</a:t>
            </a: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I nomi sostitutivi richiamano alla mente  tanto ciò che volevo ricordare  quanto ciò che volevo dimenticare e mostrano che la dimenticanza non è né interamente riuscita né interamente fallita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“</a:t>
            </a: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Fra il </a:t>
            </a:r>
            <a:r>
              <a:rPr b="1" lang="en-US" sz="3200" spc="-1" strike="noStrike" baseline="30000">
                <a:solidFill>
                  <a:srgbClr val="fffc68"/>
                </a:solidFill>
                <a:latin typeface="Bookman Old Style"/>
              </a:rPr>
              <a:t>nome cercato</a:t>
            </a: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 e </a:t>
            </a:r>
            <a:r>
              <a:rPr b="1" lang="en-US" sz="3200" spc="-1" strike="noStrike" baseline="30000">
                <a:solidFill>
                  <a:srgbClr val="fffc68"/>
                </a:solidFill>
                <a:latin typeface="Bookman Old Style"/>
              </a:rPr>
              <a:t>l’argomento rimosso</a:t>
            </a: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 si è stabilito un </a:t>
            </a:r>
            <a:r>
              <a:rPr b="1" lang="en-US" sz="3200" spc="-1" strike="noStrike" baseline="30000">
                <a:solidFill>
                  <a:srgbClr val="fffc68"/>
                </a:solidFill>
                <a:latin typeface="Bookman Old Style"/>
              </a:rPr>
              <a:t>nesso particolare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baseline="30000">
                <a:solidFill>
                  <a:srgbClr val="fffc68"/>
                </a:solidFill>
                <a:latin typeface="Bookman Old Style"/>
              </a:rPr>
              <a:t>I nomi sono stati trattati in maniera analoga agli ideogrammi in una frase da trasformare in un rebus</a:t>
            </a:r>
            <a:r>
              <a:rPr b="0" lang="it-IT" sz="4000" spc="-1" strike="noStrike" baseline="30000">
                <a:solidFill>
                  <a:srgbClr val="fffc68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fffc68"/>
              </a:solidFill>
              <a:latin typeface="Arial"/>
            </a:endParaRPr>
          </a:p>
          <a:p>
            <a:pPr marL="3052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baseline="30000">
                <a:solidFill>
                  <a:srgbClr val="fffc68"/>
                </a:solidFill>
                <a:latin typeface="Bookman Old Style"/>
              </a:rPr>
              <a:t>Di tutto questo processo che ha portato ai nomi sostitutivi nulla è penetrato nella coscienza. </a:t>
            </a:r>
            <a:endParaRPr b="0" lang="en-US" sz="4000" spc="-1" strike="noStrike">
              <a:solidFill>
                <a:srgbClr val="fffc68"/>
              </a:solidFill>
              <a:latin typeface="Arial"/>
            </a:endParaRPr>
          </a:p>
          <a:p>
            <a:pPr marL="3052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baseline="30000">
                <a:solidFill>
                  <a:srgbClr val="fffc68"/>
                </a:solidFill>
                <a:latin typeface="Bookman Old Style"/>
              </a:rPr>
              <a:t>A prima vista, fra l’argomento contenente il nome di Signorelli e l’argomento rimosso che lo precedeva nel tempo, pare che non si possa scoprire una relazione che vada al di là del ripetersi di sillabe uguali</a:t>
            </a:r>
            <a:endParaRPr b="0" lang="en-US" sz="4000" spc="-1" strike="noStrike">
              <a:solidFill>
                <a:srgbClr val="fffc68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c68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6:05:09Z</dcterms:created>
  <dc:creator>******* ********* **************</dc:creator>
  <dc:description/>
  <dc:language>en-US</dc:language>
  <cp:lastModifiedBy>Dona</cp:lastModifiedBy>
  <dcterms:modified xsi:type="dcterms:W3CDTF">2007-06-23T18:31:44Z</dcterms:modified>
  <cp:revision>4</cp:revision>
  <dc:subject/>
  <dc:title>Il metodo delle associazioni “libere</dc:title>
</cp:coreProperties>
</file>