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1BCE-3D1D-4B1D-94FE-F1F41E134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456F-49AE-4DA4-B246-A208511B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ED0F-F423-415F-8DAF-E44BE118E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9FCB-FF40-4486-ADAD-F26931E3F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619C-0732-4942-BBDC-4FB131A5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7741-B05D-4E9D-8F7C-ADBE17D7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C289-DD29-4981-B0B2-A1BBA0BF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5FDB-E445-479D-BE1C-9BEFF22A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2A78-ACCC-44D1-B3CF-C9D07887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9647-EEBB-4009-9D69-45565128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0439-F089-433D-A5CE-9B4837F6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2379-1F15-45BB-BA23-7B664AA9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FC1A-76CF-4831-9DF0-E69408041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7T15:43:00Z</dcterms:created>
  <dc:creator>Universidad San Sebastian</dc:creator>
  <dc:description/>
  <dc:language>en-US</dc:language>
  <cp:lastModifiedBy>.</cp:lastModifiedBy>
  <dcterms:modified xsi:type="dcterms:W3CDTF">2006-10-18T19:33:23Z</dcterms:modified>
  <cp:revision>10</cp:revision>
  <dc:subject/>
  <dc:title>Sin título de diapositiva</dc:title>
</cp:coreProperties>
</file>